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F5A4-A66A-44C6-AA22-E98BCAA34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0693-438E-4735-9655-A84C9014D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817D-46BA-4A98-BB9C-50A4D4F7D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556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0384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4728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556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0384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570D-157D-40DE-89F2-C9A38CE06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0E994-B0C2-4F6A-9E40-223C913B39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BFD39-3560-46ED-A1E6-9E3C7A6BD1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5A01-39FB-4ED1-99EC-D12B359FC1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BC2D-C98C-45EB-8C99-A4A6B30C1E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EDA22-7567-47EC-9978-310A9F4DC6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4460-7101-48AE-B364-587D02E104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167D-C933-4371-8792-51485F08C9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0F7E-119A-4A6A-A8A5-9D8FD8F83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97A2-471A-45C2-8537-98A8758CF0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2A99-9562-404B-9BE0-521A4D94A5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45FDF-03A2-4DD1-9E98-B2E2CC3EDE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7EA0-C6F7-40C4-8107-2D86DB89A8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2556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70384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54728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2556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70384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ABC6-703F-4082-B22A-95D2CE20EB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938B-ABCF-4AC6-A99E-B1F6EA974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6C09-9788-4928-B48C-099BE609B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38C7-96C1-42E8-BD30-911351058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4139-C191-4454-94F3-411641A62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4D3F-A786-4D18-834D-3FD673815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38F3-58E6-4519-B739-E728FF573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44FC-FD1C-471F-A2C9-0479CA484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35F1-FB08-4254-B301-A570A3044718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025D-960E-4816-A68E-E5CDD4B47C7B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ntarctica.ac.uk/index.php" TargetMode="External"/><Relationship Id="rId3" Type="http://schemas.openxmlformats.org/officeDocument/2006/relationships/hyperlink" Target="http://www.antarctica.ac.uk/index.php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Do you fancy working in the Antarctic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E6BB-543D-46AB-9806-0A6614C8EB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urrent Vacancie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re are 10 vacancies available. You can sort the list below by clicking on the column title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Field Assistants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 May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Head of Human Resources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23 May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Winter Base Commander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30 May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Base Commander - KEP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30 May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Base Commander - Bird Island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30 May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Boating Officer - Rothera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06 Jun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ZOOLOGICAL FIELD ASSISTANT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06 Jun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Boating Officer - KEP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06 Jun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Biological Science Support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06 Jun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Scientific Assistant (Marine Biologist), KEP 06 Jun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93CA-05B4-4492-B140-F1061DF291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British Antarctic Survey (BAS)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836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s UK base is in Cambridge and it has Antarctic bases here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971640" y="1519200"/>
            <a:ext cx="6769080" cy="508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D82A-E061-4DBA-A81D-E1A48F7304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ake  a look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642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main site is:</a:t>
            </a:r>
            <a:br>
              <a:rPr sz="2400"/>
            </a:br>
            <a:r>
              <a:rPr b="0" lang="en-GB" sz="2400" spc="-1" strike="noStrike" u="sng">
                <a:solidFill>
                  <a:srgbClr val="cc99ff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en-GB" sz="2400" spc="-1" strike="noStrike" u="sng">
                <a:solidFill>
                  <a:srgbClr val="cc99ff"/>
                </a:solidFill>
                <a:uFillTx/>
                <a:latin typeface="Comic Sans MS"/>
                <a:hlinkClick r:id="rId3"/>
              </a:rPr>
              <a:t>www.antarctica.ac.uk/index.php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But you will dodging around the site to gather and share information about what it is to live on the Antarctic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So for instance about the various UK Research stations you might try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http://www.antarctica.ac.uk/living_and_working/research_stations/index.php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n you might like to see what sort of jobs are available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http://www.antarctica.ac.uk/employment/career_areas/index.php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n you might like to investigate daily life: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http://www.antarctica.ac.uk/living_and_working/index.php 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re are also diaries from people who have been there which may help 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Want to add some Antarctic slang to your homework? http://www.coolantarctica.com/Community/antarctic_slang.htm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D8DD-91F5-4D8C-B05B-99FBEA2904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Homework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24000" y="3213000"/>
            <a:ext cx="84960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Is to gather the information into some form of communication - a letter home, an article for the local paper when you return - whatever takes your fancy 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9C9D-1261-43E6-B0C5-31823ECCE3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2:26:39Z</dcterms:created>
  <dc:creator>Lindy</dc:creator>
  <dc:description/>
  <dc:language>en-US</dc:language>
  <cp:lastModifiedBy>Lindy</cp:lastModifiedBy>
  <dcterms:modified xsi:type="dcterms:W3CDTF">2010-05-16T21:52:35Z</dcterms:modified>
  <cp:revision>4</cp:revision>
  <dc:subject/>
  <dc:title>Do you fancy working in the Antarctic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